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0B07-E05A-4DB2-83C6-450A9A97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7E80-A704-4DCF-8EA8-291F62D11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B717-EB5C-4A28-BD3A-398CC791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Literacy Leaders Supporting Middle Leaders in Subject-Specific Literacy Practice (Part 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ck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ctory activi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2 post-it notes. On one writ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on the other writ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llen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experienced since March on leading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erson who does not work in the same school as you and share your success and your challe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 the notes on the whiteboard so we can refer to them throughout the d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Literacy Leaders wil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Gain ideas about leading your literacy inquiry/inquiries from others in the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velop your ability to be agents of change in supporting middle leaders to respond effectively to the identified literacy and language needs of stud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xplore ways to better position yourself to know and support your priority learn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xplore ways to support middle leaders in leading subject teachers to support student wri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tocols for sharing “inquiries”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erson has a maximum of 5 minutes (someone to be appointed as time-keep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eaker has an uninterrupted floor while sp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can ask questions when the person has finish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intosh HD:Users:ireneandersen:Desktop:Sec Contract 2012/13:Sec lit 2012/13:National workshop 2013:August :VID00007.AVI" descr="/Users/ireneandersen/Desktop/Sec Contract 2012:13/Sec lit 2012:13/National workshop 2013/August /VID00007.AVI"/>
          <p:cNvPicPr/>
          <p:nvPr/>
        </p:nvPicPr>
        <p:blipFill>
          <a:blip r:embed="rId1"/>
          <a:stretch/>
        </p:blipFill>
        <p:spPr>
          <a:xfrm>
            <a:off x="1003320" y="6858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379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 key elements to effective chang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focuses on improved student outcomes and is founded on the best available ev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plan in a thoughtful but relentless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rea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y-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aying careful attention to communication and the views and ideas of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evitable dist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 Ben Lev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s “hearts and minds” enough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’t force commitment. What you can do …you nudge a little here, inspire a little there, and provide a role model. Your primary influence is the environment you creat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eter S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er learning processes to bring about chang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1: Cueing and retrieving prior knowl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2: Becoming aware of new information/skills and integrating them into current values and belief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3: creating dissonance with current position (values and belief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perley, Wilson, Barrar &amp; Fung (2007) BES Teacher Professional Learning and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roving student wri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teachers help students improve their written responses in NCE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3:33:07Z</dcterms:created>
  <dc:creator>Studio 4</dc:creator>
  <dc:description/>
  <dc:language>en-US</dc:language>
  <cp:lastModifiedBy>Irene Andersen</cp:lastModifiedBy>
  <cp:lastPrinted>2013-07-31T19:25:10Z</cp:lastPrinted>
  <dcterms:modified xsi:type="dcterms:W3CDTF">2013-08-13T20:42:28Z</dcterms:modified>
  <cp:revision>38</cp:revision>
  <dc:subject/>
  <dc:title>PowerPoint Presentation</dc:title>
</cp:coreProperties>
</file>